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8861-2FD1-4F15-B6DA-3B7E1995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05BC-B188-4DE7-B2BF-8B2430C0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74B7-7ABB-4CD0-9848-F9D6E855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33FF-A1FA-45F8-BECB-BD4374ED9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F7E7-A501-496D-90D8-D85BF15F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F586-7A7C-46B3-B912-AEDCB3E4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FB2F-63D7-4132-9E64-55643CDA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4990-3071-4087-948F-CF5B08A2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7AC2-C63D-47C7-BB92-363B2062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BF04-16D8-4E07-AA21-91601974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4A42-3E14-4CEE-96C4-F8D66D35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49A6-7525-458E-BE77-EA94BB86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F805-EA02-4D84-BCFC-8E8FC80CCC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429000"/>
            <a:ext cx="809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cc"/>
                </a:solidFill>
                <a:latin typeface="Times New Roman"/>
              </a:rPr>
              <a:t>First  Aid Right And Wro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64480" y="2057400"/>
            <a:ext cx="38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tegrating s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0760" y="304920"/>
            <a:ext cx="862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 the following descriptions of accidents on page 1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 decide what the  rescuers did wr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523880"/>
          <a:ext cx="8381520" cy="4952880"/>
        </p:xfrm>
        <a:graphic>
          <a:graphicData uri="http://schemas.openxmlformats.org/drawingml/2006/table">
            <a:tbl>
              <a:tblPr/>
              <a:tblGrid>
                <a:gridCol w="4190400"/>
                <a:gridCol w="41911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did w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2360" y="304920"/>
            <a:ext cx="751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what you have learned about first aid to l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they should have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0880" y="1447920"/>
          <a:ext cx="8381880" cy="518112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should have d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73240" y="1295280"/>
            <a:ext cx="195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cc"/>
                </a:solidFill>
                <a:latin typeface="Times New Roman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6280" y="2743200"/>
            <a:ext cx="859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one of the situations in the reading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a description. In the new descrip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cuer should give first aid in the right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00:59:38Z</dcterms:created>
  <dc:creator>kkasfjoirfe</dc:creator>
  <dc:description/>
  <dc:language>en-US</dc:language>
  <cp:lastModifiedBy>kkasfjoirfe</cp:lastModifiedBy>
  <dcterms:modified xsi:type="dcterms:W3CDTF">2004-07-18T03:02:30Z</dcterms:modified>
  <cp:revision>5</cp:revision>
  <dc:subject/>
  <dc:title>PowerPoint 演示文稿</dc:title>
</cp:coreProperties>
</file>